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E2E-8118-46E5-B087-A6AF3109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CE7F-5D34-4110-A898-F7C500AD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5217-D163-4860-B28D-E1ADA4D5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7CB-20AB-41B8-A775-30F22AE4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57F-D8B8-4842-A68A-DD262845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052-66AC-475D-8D91-EE1E7413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0E3-59CE-48DD-92B5-D1A9BB3D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660-4453-4390-9C84-9ABED5E9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A8A-AFBF-42E2-8752-3E4842FD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F7EA-2F1B-430A-96DB-42A91B88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50A-4ED9-4548-A082-EA055A6F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37FC-E899-4929-A579-A5AD17FA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16E3-2B20-41CA-A984-7DA6DBF89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08:40:34Z</dcterms:created>
  <dc:creator>Grupo Editorial</dc:creator>
  <dc:description/>
  <dc:language>en-US</dc:language>
  <cp:lastModifiedBy>Grupo Editorial</cp:lastModifiedBy>
  <dcterms:modified xsi:type="dcterms:W3CDTF">2001-11-16T08:42:26Z</dcterms:modified>
  <cp:revision>1</cp:revision>
  <dc:subject/>
  <dc:title>Sin título de diapositiva</dc:title>
</cp:coreProperties>
</file>